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5320" y="6901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757389-4840-46AA-8C9D-9422EF0C0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annotation results for B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genome = 100(# basepairs/3,000,000,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known count scales up to 21,888 genes in the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e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 66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- 5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- 118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- 2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- 26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embl found 960 pseudogenes in the entire genome: clearly too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tated 23,299 genes in the entire gen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7EDB43-CF8E-4429-8D72-DCD6851AF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32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‘most exciting exon’ hierarchy in which extra &gt; skip &gt; alt &gt; run on.  Hence lower types on the table may be contained within higher types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frequencies, “pure cases” as % of type, and “pure cases” as % of total for each typ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1229 full length variants aligned to their known counter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results are seen for all variants aligned to kn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% of variants are full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5’ exons – 7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3’ exons – 3 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op stat only applies to cases with inserted sequence (extra exon, alt sites which extend an exon, and run 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532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5' extension =  46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3' extension = 143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D48292-5563-4BDF-B27B-AAA0A954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2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53C3CD-186B-4172-AC0B-4681CCE16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HsT34389|HsG15518|Novel_CDS|2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72F390-FC13-45D2-AFE8-2E2CE44D2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G15104- GEMIN4 gene; several additional alternative splice forms; extra UTR and longer gen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s, GenBank, GenPept, MGC, Ref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 computes metrics but also flags certain genes for manual insp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is in GenBank and the Vega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9E4-3210-4DEF-ACE9-5D7BA1BD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852-673F-44B3-BEA9-DC2B41A3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FA5-5BAD-414E-9E16-038BA066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3F3-7D74-4871-B43A-6404A56E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8AA2B-3BCA-443F-B027-44AB5165B0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DE4E6-0B20-4F1C-8C21-945D55969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7DB71-B293-403F-B248-CDE46D4176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6AA5C-FDDF-457B-BF94-57C1527D0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FDBE8-6311-4FC1-B3C9-DA587870F8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A3DDC-1554-4DFD-8282-CB1D95171C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4B3E9-FBD4-4AB0-8DAE-727E6F6E34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015-293D-4A1F-B930-2DEF1639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A2B66-73F4-41E2-9601-056B61A83F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7C37E-6D08-4B9C-A0D3-A485BA2ECF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53F2C-D470-460E-B202-95E55616D2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D5974-CEEE-4B31-BC29-1C49D11238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4D19-B81E-435D-8C48-3E91F702C1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67C-95F7-4652-8F3D-90E553E3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2DA-8AA1-4FD5-B581-F3A3B42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71F-B1C3-4C7A-8E0B-BC14498F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180-8A76-4AA2-9EB5-8A6FF244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5F9-20E2-477F-850B-39775D3F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948-774A-49B8-B1FF-A7D8D0D8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BE6-A267-4320-8421-BC65EDD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2E3C-FC9F-4D2F-B4B7-E13925D3BBE1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28240" y="662904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162560" y="662904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43D5-A63E-40CE-9F37-059917739CD6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017880"/>
            <a:ext cx="4572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nappa Kod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MOD 2004, Cambridge, 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4960" y="1116000"/>
            <a:ext cx="66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Manual Annotation of Human Gen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at Broad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41320"/>
            <a:ext cx="1346040" cy="873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240" y="1222200"/>
            <a:ext cx="159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Hunter Gen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0960" y="16383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193760"/>
            <a:ext cx="3495600" cy="41234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Gen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n/In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and 5’ U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Tran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utomated Ge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seud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ration 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/Adjust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olyA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1200" y="5748480"/>
            <a:ext cx="1295280" cy="576000"/>
          </a:xfrm>
          <a:prstGeom prst="can">
            <a:avLst>
              <a:gd name="adj" fmla="val 25000"/>
            </a:avLst>
          </a:prstGeom>
          <a:solidFill>
            <a:srgbClr val="1e5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8560" y="5959440"/>
            <a:ext cx="15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not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07240" y="5246640"/>
            <a:ext cx="15634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eatures of Argo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440" y="818640"/>
            <a:ext cx="82389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ttaching primary and supplemental evidence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luster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Filtering and customizing evidence list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Display poly A signals  and splice junc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lerting discrepancies before updating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Highlighting parent and chil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eal-time interactive analysi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ORF selection op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Tabular dump of selecte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oll back and save work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ustomization of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View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8600" y="744480"/>
            <a:ext cx="8610480" cy="5746680"/>
            <a:chOff x="228600" y="744480"/>
            <a:chExt cx="8610480" cy="5746680"/>
          </a:xfrm>
        </p:grpSpPr>
        <p:grpSp>
          <p:nvGrpSpPr>
            <p:cNvPr id="182" name=""/>
            <p:cNvGrpSpPr/>
            <p:nvPr/>
          </p:nvGrpSpPr>
          <p:grpSpPr>
            <a:xfrm>
              <a:off x="228600" y="744480"/>
              <a:ext cx="8610480" cy="5746680"/>
              <a:chOff x="228600" y="744480"/>
              <a:chExt cx="8610480" cy="5746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rcRect l="2970" t="0" r="8907" b="26498"/>
              <a:stretch/>
            </p:blipFill>
            <p:spPr>
              <a:xfrm>
                <a:off x="228600" y="744480"/>
                <a:ext cx="8610480" cy="574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rcRect l="3203" t="43752" r="54675" b="42024"/>
              <a:stretch/>
            </p:blipFill>
            <p:spPr>
              <a:xfrm>
                <a:off x="280800" y="5373720"/>
                <a:ext cx="4115520" cy="111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" descr=""/>
            <p:cNvPicPr/>
            <p:nvPr/>
          </p:nvPicPr>
          <p:blipFill>
            <a:blip r:embed="rId4"/>
            <a:srcRect l="39872" t="27899" r="40117" b="54926"/>
            <a:stretch/>
          </p:blipFill>
          <p:spPr>
            <a:xfrm>
              <a:off x="6753240" y="1913040"/>
              <a:ext cx="208584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onfidence levels of our gene model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0200" y="1282680"/>
            <a:ext cx="82123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lassification of transcripts –Hawk standard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27920" indent="-2800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Known, Novel_CDS, Novel, Putative, Pseudogene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ssociation of primary and supplemental evidence with annotated featur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Rank order in selection of supporting evidenc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uration flags 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ree text commen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Gene counts for Broad and Ensembl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806480"/>
          <a:ext cx="9128160" cy="251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06480"/>
                    <a:ext cx="91281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Manually Annotated Gene Models vs. public Gene Model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0560"/>
          <a:ext cx="853452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0560"/>
                    <a:ext cx="85345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8131320" y="1325520"/>
            <a:ext cx="141120" cy="1098720"/>
          </a:xfrm>
          <a:custGeom>
            <a:avLst/>
            <a:gdLst>
              <a:gd name="textAreaLeft" fmla="*/ 0 w 141120"/>
              <a:gd name="textAreaRight" fmla="*/ 50760 w 141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1650960"/>
            <a:ext cx="13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34480" y="3214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7040" y="361800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7440" y="3879720"/>
            <a:ext cx="77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4037040"/>
            <a:ext cx="27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EM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601992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-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5813280"/>
            <a:ext cx="195480" cy="757440"/>
          </a:xfrm>
          <a:custGeom>
            <a:avLst/>
            <a:gdLst>
              <a:gd name="textAreaLeft" fmla="*/ 0 w 195480"/>
              <a:gd name="textAreaRight" fmla="*/ 70560 w 195480"/>
              <a:gd name="textAreaTop" fmla="*/ 19440 h 757440"/>
              <a:gd name="textAreaBottom" fmla="*/ 73800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37560" y="4781520"/>
            <a:ext cx="326880" cy="849240"/>
          </a:xfrm>
          <a:custGeom>
            <a:avLst/>
            <a:gdLst>
              <a:gd name="textAreaLeft" fmla="*/ 0 w 326880"/>
              <a:gd name="textAreaRight" fmla="*/ 118080 w 32688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37440" y="49766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76760" y="2117880"/>
            <a:ext cx="3914640" cy="287280"/>
            <a:chOff x="4676760" y="2117880"/>
            <a:chExt cx="3914640" cy="287280"/>
          </a:xfrm>
        </p:grpSpPr>
        <p:sp>
          <p:nvSpPr>
            <p:cNvPr id="205" name=""/>
            <p:cNvSpPr/>
            <p:nvPr/>
          </p:nvSpPr>
          <p:spPr>
            <a:xfrm>
              <a:off x="4702320" y="2262240"/>
              <a:ext cx="38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76760" y="2119320"/>
              <a:ext cx="682560" cy="285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7440" y="2119320"/>
              <a:ext cx="68256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08840" y="2119320"/>
              <a:ext cx="682560" cy="28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94480" y="2117880"/>
              <a:ext cx="30924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ypes of splice vari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3760" y="1362240"/>
          <a:ext cx="4178160" cy="2993760"/>
        </p:xfrm>
        <a:graphic>
          <a:graphicData uri="http://schemas.openxmlformats.org/drawingml/2006/table">
            <a:tbl>
              <a:tblPr/>
              <a:tblGrid>
                <a:gridCol w="2070000"/>
                <a:gridCol w="21081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ari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lt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run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4676760" y="1533600"/>
            <a:ext cx="3914280" cy="285480"/>
            <a:chOff x="4676760" y="1533600"/>
            <a:chExt cx="3914280" cy="285480"/>
          </a:xfrm>
        </p:grpSpPr>
        <p:sp>
          <p:nvSpPr>
            <p:cNvPr id="213" name=""/>
            <p:cNvSpPr/>
            <p:nvPr/>
          </p:nvSpPr>
          <p:spPr>
            <a:xfrm>
              <a:off x="4702320" y="1676520"/>
              <a:ext cx="38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76760" y="1533600"/>
              <a:ext cx="682560" cy="285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37440" y="1533600"/>
              <a:ext cx="682560" cy="28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8480" y="1533600"/>
              <a:ext cx="682560" cy="285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76760" y="3330720"/>
            <a:ext cx="3914280" cy="299520"/>
            <a:chOff x="4676760" y="3330720"/>
            <a:chExt cx="3914280" cy="299520"/>
          </a:xfrm>
        </p:grpSpPr>
        <p:sp>
          <p:nvSpPr>
            <p:cNvPr id="218" name=""/>
            <p:cNvSpPr/>
            <p:nvPr/>
          </p:nvSpPr>
          <p:spPr>
            <a:xfrm>
              <a:off x="4702320" y="348732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345120"/>
              <a:ext cx="682200" cy="284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2240" y="3345120"/>
              <a:ext cx="347760" cy="28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040" y="3330720"/>
              <a:ext cx="927000" cy="299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3938760"/>
            <a:ext cx="2601720" cy="285120"/>
            <a:chOff x="4676760" y="3938760"/>
            <a:chExt cx="2601720" cy="285120"/>
          </a:xfrm>
        </p:grpSpPr>
        <p:sp>
          <p:nvSpPr>
            <p:cNvPr id="223" name=""/>
            <p:cNvSpPr/>
            <p:nvPr/>
          </p:nvSpPr>
          <p:spPr>
            <a:xfrm>
              <a:off x="4702320" y="4081680"/>
              <a:ext cx="20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6760" y="3938760"/>
              <a:ext cx="682200" cy="285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8160" y="3938760"/>
              <a:ext cx="940320" cy="285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2395440" y="5010120"/>
          <a:ext cx="4199040" cy="1035000"/>
        </p:xfrm>
        <a:graphic>
          <a:graphicData uri="http://schemas.openxmlformats.org/drawingml/2006/table">
            <a:tbl>
              <a:tblPr/>
              <a:tblGrid>
                <a:gridCol w="3125880"/>
                <a:gridCol w="107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DS al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8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new sto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4676760" y="2736720"/>
            <a:ext cx="3914280" cy="285480"/>
            <a:chOff x="4676760" y="2736720"/>
            <a:chExt cx="3914280" cy="285480"/>
          </a:xfrm>
        </p:grpSpPr>
        <p:sp>
          <p:nvSpPr>
            <p:cNvPr id="228" name=""/>
            <p:cNvSpPr/>
            <p:nvPr/>
          </p:nvSpPr>
          <p:spPr>
            <a:xfrm>
              <a:off x="4702320" y="287928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6760" y="2736720"/>
              <a:ext cx="682560" cy="285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8480" y="2736720"/>
              <a:ext cx="682560" cy="285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489240"/>
            <a:ext cx="8610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Our data extend most RefSeq/MGC transcript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87200" y="847800"/>
            <a:ext cx="8788680" cy="601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69080" y="2809800"/>
            <a:ext cx="24588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5' extension =  4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3' extension = 143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嘀攀爀搀愀渀愀"/>
              </a:rPr>
              <a:t>Complete 3 end as compared to Refseq mRNA and ENSEMBL gene</a:t>
            </a:r>
            <a:endParaRPr b="0" lang="en-US" sz="1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066680"/>
          <a:ext cx="9144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How valid are these 3’ and 5’ extensions ?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25600" y="1476360"/>
          <a:ext cx="58388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5600" y="1476360"/>
                    <a:ext cx="5838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Accurate and comprehensive catalog of genes and gene product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Robust annotation system for annotation  of all sequenced genom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4480" y="-305640"/>
            <a:ext cx="8939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Using Start and Stop Codon Context  to Refine Annotation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0" y="1523880"/>
          <a:ext cx="441972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419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57200" y="1523880"/>
          <a:ext cx="4114800" cy="41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523880"/>
                    <a:ext cx="4114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981080" y="4419720"/>
            <a:ext cx="1524240" cy="75960"/>
          </a:xfrm>
          <a:prstGeom prst="leftRightArrow">
            <a:avLst>
              <a:gd name="adj1" fmla="val 50000"/>
              <a:gd name="adj2" fmla="val 39946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4495680"/>
            <a:ext cx="1676160" cy="76320"/>
          </a:xfrm>
          <a:prstGeom prst="leftRightArrow">
            <a:avLst>
              <a:gd name="adj1" fmla="val 50000"/>
              <a:gd name="adj2" fmla="val 4372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2095560"/>
            <a:ext cx="1828800" cy="1143000"/>
          </a:xfrm>
          <a:prstGeom prst="wedgeRectCallout">
            <a:avLst>
              <a:gd name="adj1" fmla="val -33851"/>
              <a:gd name="adj2" fmla="val 150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op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CI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7440" y="2109960"/>
            <a:ext cx="1828800" cy="1066680"/>
          </a:xfrm>
          <a:prstGeom prst="wedgeRectCallout">
            <a:avLst>
              <a:gd name="adj1" fmla="val -33851"/>
              <a:gd name="adj2" fmla="val 157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art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Issues with Novel and putative transcripts 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8920" y="1376280"/>
            <a:ext cx="3771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1" name=""/>
          <p:cNvSpPr/>
          <p:nvPr/>
        </p:nvSpPr>
        <p:spPr>
          <a:xfrm>
            <a:off x="303120" y="1139760"/>
            <a:ext cx="4329360" cy="571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pth EST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transcrip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o of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oding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ross-species 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ly A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pG 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173240"/>
            <a:ext cx="4025880" cy="5684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urious tran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ly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ge speci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3972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Prob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utativ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Nov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Known Transcrip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3480" y="1905120"/>
          <a:ext cx="51894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1905120"/>
                    <a:ext cx="5189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981760" y="2082960"/>
            <a:ext cx="1359000" cy="1422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095560"/>
            <a:ext cx="2921040" cy="16635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4160" y="3949560"/>
            <a:ext cx="5397480" cy="2541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16520" y="1689120"/>
            <a:ext cx="16765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3560" y="1690560"/>
            <a:ext cx="167652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3120" y="3849840"/>
            <a:ext cx="1676520" cy="380880"/>
          </a:xfrm>
          <a:prstGeom prst="rect">
            <a:avLst/>
          </a:prstGeom>
          <a:solidFill>
            <a:srgbClr val="245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nnotating Non-coding mRNAs is still a challenge !!!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63520" y="2822400"/>
          <a:ext cx="8690040" cy="30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2822400"/>
                    <a:ext cx="8690040" cy="3043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171440" y="4367160"/>
            <a:ext cx="31284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1400" y="2811600"/>
            <a:ext cx="264960" cy="16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65720" y="2703600"/>
            <a:ext cx="333360" cy="1751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7960" y="2673360"/>
            <a:ext cx="284040" cy="176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04960" y="1200240"/>
            <a:ext cx="30481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o RN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5920" y="2143080"/>
            <a:ext cx="1366920" cy="216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76920" y="2114640"/>
            <a:ext cx="936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163600"/>
            <a:ext cx="76680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3720" y="2152800"/>
            <a:ext cx="10918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hallenges Ahead….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6160" y="1104840"/>
            <a:ext cx="818676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Establishing Common Standard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Validating Novel Transcript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ingle Exon Expressed Sequence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Determination of Accurate ORF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Functionally Relevant Alternative Splice Form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inding Sparsely Expressed Gene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New Types of Non-coding Functional mRNA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Incremental Update of Annotation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Capturing Biological Exception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9" name=""/>
          <p:cNvSpPr/>
          <p:nvPr/>
        </p:nvSpPr>
        <p:spPr>
          <a:xfrm>
            <a:off x="507960" y="1644480"/>
            <a:ext cx="37386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nhard En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nguang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h Pur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 Elk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uhong W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ge Smir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rah Cal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id Dicap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94400" y="985680"/>
            <a:ext cx="3725640" cy="40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ie Whitt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orow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ead O’le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 Gal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ill Mes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ic L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cing, Finishing and Closur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0" y="1238400"/>
            <a:ext cx="3281400" cy="412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1265400"/>
            <a:ext cx="3106800" cy="18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53160" y="3281400"/>
            <a:ext cx="3106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45600" y="14716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嘀攀爀搀愀渀愀"/>
              </a:rPr>
              <a:t>Comparison of alternative splice forms between ENSEMBL and  Broad annotation</a:t>
            </a:r>
            <a:endParaRPr b="0" lang="en-US" sz="1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914400"/>
          <a:ext cx="807732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077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 flipV="1">
            <a:off x="83808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Br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581280"/>
            <a:ext cx="99072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990720"/>
            <a:ext cx="83808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43828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nt-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7160" y="185760"/>
            <a:ext cx="74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ually Annotated Gene Models vs. public Ge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80880" y="1752480"/>
          <a:ext cx="85345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75248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343400" y="4648320"/>
            <a:ext cx="129528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3400" y="4343400"/>
            <a:ext cx="1295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038480"/>
            <a:ext cx="12952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14479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 H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1981080"/>
            <a:ext cx="14479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181480"/>
            <a:ext cx="1295280" cy="1676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219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143000"/>
            <a:ext cx="121896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A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1000" y="16200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vel Transcript Variants of Known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Annotation Strategy: Evidence-based Annotation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8229600" cy="40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8229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57200" y="5105520"/>
            <a:ext cx="358128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MD1 g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Size: 2065,608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Length: 11,297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Length: 3565 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 Exons: 6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Exons : 16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5520"/>
            <a:ext cx="30481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ensh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scan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t_EST 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0240" y="60120"/>
            <a:ext cx="695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Rule-based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0" name=""/>
          <p:cNvSpPr/>
          <p:nvPr/>
        </p:nvSpPr>
        <p:spPr>
          <a:xfrm>
            <a:off x="600120" y="728640"/>
            <a:ext cx="7986600" cy="5829480"/>
          </a:xfrm>
          <a:prstGeom prst="flowChartMerg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-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-specific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pecies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ho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es + Gene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880" y="1671480"/>
            <a:ext cx="42840" cy="18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040" y="3672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Decreasing order of confidenc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0120" y="5272200"/>
            <a:ext cx="1440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System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324240"/>
            <a:ext cx="1305000" cy="1181160"/>
          </a:xfrm>
          <a:prstGeom prst="flowChartMagneticDisk">
            <a:avLst/>
          </a:prstGeom>
          <a:gradFill rotWithShape="0">
            <a:gsLst>
              <a:gs pos="0">
                <a:srgbClr val="07006a"/>
              </a:gs>
              <a:gs pos="50000">
                <a:srgbClr val="1100e8"/>
              </a:gs>
              <a:gs pos="100000">
                <a:srgbClr val="070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3314880"/>
            <a:ext cx="1295280" cy="361800"/>
          </a:xfrm>
          <a:prstGeom prst="ellipse">
            <a:avLst/>
          </a:prstGeom>
          <a:solidFill>
            <a:srgbClr val="ffffc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6080" y="3665520"/>
            <a:ext cx="2878560" cy="1735560"/>
            <a:chOff x="1756080" y="3665520"/>
            <a:chExt cx="2878560" cy="1735560"/>
          </a:xfrm>
        </p:grpSpPr>
        <p:grpSp>
          <p:nvGrpSpPr>
            <p:cNvPr id="108" name=""/>
            <p:cNvGrpSpPr/>
            <p:nvPr/>
          </p:nvGrpSpPr>
          <p:grpSpPr>
            <a:xfrm>
              <a:off x="2245320" y="3665520"/>
              <a:ext cx="2389320" cy="1708560"/>
              <a:chOff x="2245320" y="3665520"/>
              <a:chExt cx="2389320" cy="1708560"/>
            </a:xfrm>
          </p:grpSpPr>
          <p:sp>
            <p:nvSpPr>
              <p:cNvPr id="109" name=""/>
              <p:cNvSpPr/>
              <p:nvPr/>
            </p:nvSpPr>
            <p:spPr>
              <a:xfrm rot="16200000">
                <a:off x="3242160" y="398160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 rot="16200000">
                <a:off x="2528280" y="338184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56080" y="4697280"/>
              <a:ext cx="1480680" cy="703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Ca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0560" y="2744640"/>
            <a:ext cx="2347920" cy="665280"/>
            <a:chOff x="5200560" y="2744640"/>
            <a:chExt cx="2347920" cy="665280"/>
          </a:xfrm>
        </p:grpSpPr>
        <p:sp>
          <p:nvSpPr>
            <p:cNvPr id="113" name=""/>
            <p:cNvSpPr/>
            <p:nvPr/>
          </p:nvSpPr>
          <p:spPr>
            <a:xfrm flipV="1">
              <a:off x="5200560" y="2990880"/>
              <a:ext cx="67644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0240" y="2744640"/>
              <a:ext cx="1668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40040" y="3754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43720" y="1039680"/>
            <a:ext cx="3100680" cy="2246400"/>
            <a:chOff x="2943720" y="1039680"/>
            <a:chExt cx="3100680" cy="2246400"/>
          </a:xfrm>
        </p:grpSpPr>
        <p:sp>
          <p:nvSpPr>
            <p:cNvPr id="117" name=""/>
            <p:cNvSpPr/>
            <p:nvPr/>
          </p:nvSpPr>
          <p:spPr>
            <a:xfrm>
              <a:off x="4457880" y="261936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7360" y="214488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43720" y="1039680"/>
              <a:ext cx="1349640" cy="45972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12320" y="1049400"/>
              <a:ext cx="1432080" cy="459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8200" y="1514520"/>
              <a:ext cx="209520" cy="628560"/>
            </a:xfrm>
            <a:prstGeom prst="downArrow">
              <a:avLst>
                <a:gd name="adj1" fmla="val 57574"/>
                <a:gd name="adj2" fmla="val 75000"/>
              </a:avLst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0160" y="1523880"/>
              <a:ext cx="209520" cy="628920"/>
            </a:xfrm>
            <a:prstGeom prst="downArrow">
              <a:avLst>
                <a:gd name="adj1" fmla="val 57574"/>
                <a:gd name="adj2" fmla="val 75043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544760" y="5451480"/>
            <a:ext cx="18954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cript H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6760" y="5210280"/>
            <a:ext cx="2678040" cy="61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l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9400" y="5337000"/>
            <a:ext cx="2431800" cy="171720"/>
          </a:xfrm>
          <a:prstGeom prst="leftRightArrow">
            <a:avLst>
              <a:gd name="adj1" fmla="val 50000"/>
              <a:gd name="adj2" fmla="val 28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5680" y="4730760"/>
            <a:ext cx="2965680" cy="44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 Genom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94200">
            <a:off x="4680360" y="4167720"/>
            <a:ext cx="111132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 rot="20194200">
            <a:off x="4972320" y="334080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880" y="2657520"/>
            <a:ext cx="15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20194200">
            <a:off x="3148200" y="21009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0194200">
            <a:off x="2885040" y="29073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5240" y="3772080"/>
            <a:ext cx="800280" cy="35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200" y="3860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84440" y="3958920"/>
            <a:ext cx="9018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21360" y="42037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ritical Steps in our Annotation Proces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888840"/>
            <a:ext cx="8504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Running Comput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election and Filtering Evidenc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Intelligent Automated Gene Calle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Genome Browser and Edito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Rul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rained Manual Annotator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QA Proces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ompute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289584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600200"/>
            <a:ext cx="45720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200" y="148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549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ogy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7200" y="1943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1943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9080" y="2908440"/>
            <a:ext cx="1180800" cy="18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4876920"/>
            <a:ext cx="1981440" cy="160020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2840" y="2909880"/>
            <a:ext cx="38480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Arial"/>
              </a:rPr>
              <a:t>Filtering of High Quality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Identity &gt;95% and &gt;50% QS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Splice J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ank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epeat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676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8360" y="5562720"/>
            <a:ext cx="163620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0" y="2438280"/>
            <a:ext cx="220968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1828800"/>
            <a:ext cx="571500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ranscriptHunter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766800"/>
            <a:ext cx="1600200" cy="129204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000" y="120960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981080"/>
            <a:ext cx="297180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Exon-based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Gene L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040" y="3276720"/>
            <a:ext cx="271368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Intron Edg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5640" y="150984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cript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3160" y="4546440"/>
            <a:ext cx="3010680" cy="149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Creation of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F and UT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ation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0080" y="1800360"/>
            <a:ext cx="81468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08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Screening of spliced ESTs contained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repeat elements</a:t>
            </a:r>
            <a:endParaRPr b="0" lang="en-US" sz="18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133720"/>
          <a:ext cx="71089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33720"/>
                    <a:ext cx="7108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6629400" y="2057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600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Yb8 Rep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20040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42670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ced 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5:47:53Z</dcterms:created>
  <dc:creator>Mark Borowsky</dc:creator>
  <dc:description/>
  <dc:language>en-US</dc:language>
  <cp:lastModifiedBy>CDKodira</cp:lastModifiedBy>
  <cp:lastPrinted>2003-06-25T21:29:52Z</cp:lastPrinted>
  <dcterms:modified xsi:type="dcterms:W3CDTF">2004-04-26T19:32:02Z</dcterms:modified>
  <cp:revision>303</cp:revision>
  <dc:subject/>
  <dc:title>No Slide Title</dc:title>
</cp:coreProperties>
</file>